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9.jpeg" ContentType="image/jpeg"/>
  <Override PartName="/ppt/media/image26.pct" ContentType="image/x-pict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3.pct" ContentType="image/x-pict"/>
  <Override PartName="/ppt/media/image4.jpeg" ContentType="image/jpeg"/>
  <Override PartName="/ppt/media/image3.jpeg" ContentType="image/jpeg"/>
  <Override PartName="/ppt/media/image22.pct" ContentType="image/x-pict"/>
  <Override PartName="/ppt/media/image24.pct" ContentType="image/x-pict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1.pct" ContentType="image/x-pict"/>
  <Override PartName="/ppt/media/image19.pct" ContentType="image/x-pict"/>
  <Override PartName="/ppt/media/image14.jpeg" ContentType="image/jpeg"/>
  <Override PartName="/ppt/media/image20.pct" ContentType="image/x-pict"/>
  <Override PartName="/ppt/media/image1.jpeg" ContentType="image/jpeg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60A4-BB9E-4B91-B237-43FB4478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FE11-5395-45EB-8434-89108325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2E46-DF53-44D8-88A7-A06BB2E5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59FC-D58F-41EC-A2E3-A2C33808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C27F-C9FA-44EB-BC5A-140A2332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78E2-EE49-408A-8269-5C9B0BF2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D84D-E531-49B9-9719-028A5F0C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F469-4003-4D14-A8C4-338706D0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A311-EE68-4D0B-90F8-681D80E1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F6FE-1F4B-489B-A81D-D79300A9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EE18-04AC-43EF-84E0-D4B9F7A6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E0DA-E193-484B-8DF1-7D4299A0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46C5-975C-43CB-B693-0FB7551A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AF86-DA9D-41FD-AABF-05656875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D475-5444-4279-9534-FF1FF9B8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517A-5000-4FC9-A238-FD2E0307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98AC-7CD2-4177-83A8-E57E521E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F586-E641-4D2C-8489-33C5C826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C123-976F-49CA-9937-714D0B8C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F3DE-79B3-41C6-B2EB-57E32EE0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07FB-B87E-44A1-9AB1-15B37508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3B6B-8DDD-44A0-AC04-4D9CA6DB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A6C3-83D7-430C-9BE8-DA8FBE3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D1B9-536E-4BF9-B889-B7162BE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3027-10A3-49D9-9191-164F70EF16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662A-4FF2-43FE-82A9-D1640527E6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 gold in the 2000 Olymp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ed Sonia Scown.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00 Meters tall and he weighs 97 kilo gra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7th January in 1975 Te Kui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w up on king country dairy f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598480" cy="198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048120" y="685800"/>
            <a:ext cx="441936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eresting Fa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Interesting Fact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2001 he was named an Officer of the New Zealand Order of Merit for his services to ro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ddell nearly gave up rowing in 1997 after struggling with a heart condition for four ye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3648240" cy="2189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040" y="3941640"/>
            <a:ext cx="3627360" cy="21891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Early Life And Photo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17 year old standing two meters tall he made the New Zealand junior cr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96 he moved to single sculling and won a place in the New Zealand Olympic team to go to the Atlanta Olympics were he finished 7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36232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943600" y="3505320"/>
            <a:ext cx="297180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Facts and Photo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ebruary 2001 joined New Zealand as a grinder in the sailing teams Americas Cup defen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95560" y="1600200"/>
            <a:ext cx="2560320" cy="2189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380960" y="3941640"/>
            <a:ext cx="2189160" cy="218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Fact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ddell returned to rowing training at the New Zealand rowing training centre at Lake Karapiro in late 2007 and beat current world champion Mahe Drysdale at a club competition sparking a great competition between the two for the place in New Zealand at the 2003 Summer Olympic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t to Kings College in Auck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17 year old he made the NZ junior cre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asked to row in the colts but refused as he had a 10 month scholar ship to Jap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ing was a sport with a strong trad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his year in Japan he learned Japanese and Judo and he also got his black be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71800" y="304920"/>
            <a:ext cx="411480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ore Fact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97 won the Australian single tit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in the world cup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the first person to win the Halberg award as New Zealand’s Sports person of the year three years in a row in 1998, 1999 and 200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real name is Robert Norman Wadd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ddell started rowing at Kings College in Aucklan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905120" y="45720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fac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first thoughts of going to the Olympics were in 1992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inter of 2003 Waddell began to play rugby again in his leisure 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has also competed in the 2008 Olympi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284508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1752840" cy="1524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14600" y="2209680"/>
            <a:ext cx="1066680" cy="153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62120" y="220968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510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638680" y="228600"/>
            <a:ext cx="2895840" cy="1905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80880" y="380880"/>
            <a:ext cx="5943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Facts and Photo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ddell earned a seat in New Zealand’s double sculls rowing bow behind Nathan Coh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the 2000 Olympics Rob took up a position on the Ñew Zealand Americas Cup Boat which he has also returned to after the 2008 Olymp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6000" y="53352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re fact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Even More Fact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the Olympics he retired from rowing trying out a number of other sports including rugb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ddell was the best rower on the planet winning consecutive world championships in 1998-99 and a unforgetable single sculls gold medal at the 2000 Sydney Olympic games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Rob Waddell 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quite a contrast to his days in the singles where he used to feel if he could have a bad day and still walk into the final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13320" y="1600200"/>
            <a:ext cx="250668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30640" y="3941640"/>
            <a:ext cx="327204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Photos 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81680" y="1752480"/>
            <a:ext cx="1635120" cy="2189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3272040" cy="2189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46376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33520" y="152280"/>
            <a:ext cx="1295280" cy="2265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438280" y="2209680"/>
            <a:ext cx="2362320" cy="2343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743200" y="480060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0" y="281952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04920" y="49528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943600" y="152280"/>
            <a:ext cx="25146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Winning Olympic Gold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 Waddell has broken world records by winning the world championships single sculls title in two consecutive years1998-99 the heavy weight indoor title three times and winning gold in single sculls race at the Sydney Olympics in 200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52480" y="1600200"/>
            <a:ext cx="324792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2:13:13Z</dcterms:created>
  <dc:creator>Tim Marriott</dc:creator>
  <dc:description/>
  <dc:language>en-US</dc:language>
  <cp:lastModifiedBy>Tim Marriott</cp:lastModifiedBy>
  <cp:lastPrinted>1904-01-01T00:00:00Z</cp:lastPrinted>
  <dcterms:modified xsi:type="dcterms:W3CDTF">2008-09-23T22:28:05Z</dcterms:modified>
  <cp:revision>13</cp:revision>
  <dc:subject/>
  <dc:title>Rob Waddell</dc:title>
</cp:coreProperties>
</file>